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4E9-1C03-408D-911B-162E14B3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F5B-0C62-4DF9-A7AD-FBE7EC02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46B-4D48-4623-AFF5-9AFBC9F7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A638-105F-4E42-BF31-C4768FBE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D53-839C-4D88-9E1C-AB20AE41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E3C-E700-4E1B-BCF3-ECB1A1E2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F02-26A3-4593-8181-9053846B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5BF-02CF-4A64-BC2A-5C40DA89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BDD-287E-4479-BE6E-6A46692D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9B6-F066-4624-8F7B-E81F5AEE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519-D0BE-4CF3-A8C3-F5F3E168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053-CD5F-434E-9BB3-D8327950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15D1-ADAD-452F-B414-F66404F2F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Filtered Dive Positons 200304" descr=""/>
          <p:cNvPicPr/>
          <p:nvPr/>
        </p:nvPicPr>
        <p:blipFill>
          <a:blip r:embed="rId1"/>
          <a:stretch/>
        </p:blipFill>
        <p:spPr>
          <a:xfrm>
            <a:off x="5508720" y="216000"/>
            <a:ext cx="2604960" cy="3213000"/>
          </a:xfrm>
          <a:prstGeom prst="rect">
            <a:avLst/>
          </a:prstGeom>
          <a:ln w="0">
            <a:noFill/>
          </a:ln>
        </p:spPr>
      </p:pic>
      <p:pic>
        <p:nvPicPr>
          <p:cNvPr id="44" name="Filtered Dive Positons 200405" descr=""/>
          <p:cNvPicPr/>
          <p:nvPr/>
        </p:nvPicPr>
        <p:blipFill>
          <a:blip r:embed="rId2"/>
          <a:stretch/>
        </p:blipFill>
        <p:spPr>
          <a:xfrm>
            <a:off x="4500720" y="3429000"/>
            <a:ext cx="2346120" cy="2879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79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0" y="31536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" y="57906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797520" y="3429000"/>
            <a:ext cx="2346480" cy="2879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5840" y="123840"/>
          <a:ext cx="4286160" cy="673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5840" y="123840"/>
                    <a:ext cx="4286160" cy="67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23:59:18Z</dcterms:created>
  <dc:creator>Daniel P Costa</dc:creator>
  <dc:description/>
  <dc:language>en-US</dc:language>
  <cp:lastModifiedBy>Daniel P Costa</cp:lastModifiedBy>
  <dcterms:modified xsi:type="dcterms:W3CDTF">2006-11-29T00:01:27Z</dcterms:modified>
  <cp:revision>2</cp:revision>
  <dc:subject/>
  <dc:title>Slide 1</dc:title>
</cp:coreProperties>
</file>